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1A1-7C87-4CFF-9334-B6BE4BC2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A82E-B59A-4FB9-AFAB-ABF89A5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D3B-7C01-4FFC-B223-08F33D08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AA6-6C03-45EF-A214-8C3A7859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D1F-95C2-4284-B835-D4C0932D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AD5-18C2-4423-B7D1-BF696A89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B40-33CD-4181-B4C4-8E64023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B3A-81FA-47A0-81BC-FB817D70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B01-01DF-4C4E-88B2-7329D8F9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48B-7E5C-4FE7-9DE2-ABEDD9F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92B-726B-4B2D-9058-48AAD1B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C38-3D67-4561-A930-F20B3C9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6504-1E8D-4FE3-B579-81D0F068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116920" cy="2019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2120" y="3313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152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812000" cy="2984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80150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68468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6768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18288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182880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1905120"/>
            <a:ext cx="152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7564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3520" y="4935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4815000" cy="55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02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065800" cy="104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28800" y="1905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19810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5720" y="22860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47:14Z</dcterms:created>
  <dc:creator>Graham</dc:creator>
  <dc:description/>
  <dc:language>en-US</dc:language>
  <cp:lastModifiedBy>Graham</cp:lastModifiedBy>
  <dcterms:modified xsi:type="dcterms:W3CDTF">2011-10-22T22:47:19Z</dcterms:modified>
  <cp:revision>1</cp:revision>
  <dc:subject/>
  <dc:title>Slide 1</dc:title>
</cp:coreProperties>
</file>